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3EABB-2E19-4B3C-9FDB-FC7D0BBF82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E18BB-F110-4AFB-86B8-A308AF8C68A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3DEA-4B7C-437F-B007-F6A2DE36E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6B11-7C33-4213-9C76-14BB6CE8F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D35B-F452-4D3E-8E4C-68CA960F9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E47E-E52B-4592-87FE-30E6F9C90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D9E2D-AAF1-4984-ABF9-00091F5CF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FDF3D-E774-4FB5-8F67-6625FF8E1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E34D8-CA5B-4F98-A4D0-0DB3A1C45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C2919-9DA3-4B6F-B61A-56CFAFFF5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B0E7F-90D3-48EF-A3A0-0651C92F1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891CE-00FB-499C-B95C-D4BD9C061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CA593-A06E-4745-9F11-49623A052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5C93-01D6-4AFA-9ED1-9ABD8B582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5376E-6D1F-4A3C-BDEA-9045910F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316B3-44FA-41A9-B3AF-93B509F3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D8542-5895-48CD-8B23-5A1E39013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68F2B-600A-4F28-B89A-B75BB8A89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A9FFC-A1C3-441C-B61F-35B0E16CD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EBAA-A4F2-4C80-A1FF-A4C179AAE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9078-9768-4529-9790-64342A140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B440-102F-4D22-8904-B63357588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92DF-2C1E-4202-8072-91E42EEF8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8049-50C2-498D-A2D9-2899BF472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2A15-1AF0-4397-A7C6-74CE1865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EC36-EA74-4B5F-97E5-9FAE09BC9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8DEA6-BE75-407C-AEB7-3421C54E0C5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840E3-2B39-4806-8875-0B486E809C2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5" descr="logo_ipc_01_trait copie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10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40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6,420,087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,164,200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66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97,274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7,639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66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632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0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5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4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47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71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7" descr="logo_ipc_01_trait copie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5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78176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  -  Intentional Fast Landing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ollisions/Entanglements after ope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/Reserve Entanglement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reefall Collision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malfunction/no cutaway, Spiralled to ground      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otal 5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5" descr="logo_ipc_01_trait copie"/>
          <p:cNvPicPr/>
          <p:nvPr/>
        </p:nvPicPr>
        <p:blipFill>
          <a:blip r:embed="rId8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777744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5 - 23% of 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/Intent.  Fast Landing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3 - 20% of  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anopy Collisions/Entanglements           11 – 17% of 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These  39 of the 66 fatalities - (59%) were                      canopy handling iss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5" descr="logo_ipc_01_trait copie"/>
          <p:cNvPicPr/>
          <p:nvPr/>
        </p:nvPicPr>
        <p:blipFill>
          <a:blip r:embed="rId4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0024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4 of the 66 fatalities (67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9 of the 66 fatalities (59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66 fatalities (16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59 of the 66 fatalities (89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4 (6%) of the  66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    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here were no were Tandem fatalities  in 20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71640" y="1990440"/>
            <a:ext cx="741672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Continuing high numbers of fatalities, 39 – 59%, resulting from canopy handling, canopy control, and landing iss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Over a ten-year period there has been an irregular decrease in the percentages of fatalities among Student and Intermediate jumpers and an irregular increase in the percentage of fatalities with Expert jump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Increased use of AAD and RSL re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5" descr="logo_ipc_01_trait copie"/>
          <p:cNvPicPr/>
          <p:nvPr/>
        </p:nvPicPr>
        <p:blipFill>
          <a:blip r:embed="rId4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 15.1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2009 – 13.5%; 2008 - 12.1%; 2007 - 9.6%; 2006 – 12.2%; 2005 – 10.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5,452,158 Solo jumps –  967,929 Tand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6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 10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All 2010 fatalities were Solo jump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4" descr="logo_ipc_01_trait copie"/>
          <p:cNvPicPr/>
          <p:nvPr/>
        </p:nvPicPr>
        <p:blipFill>
          <a:blip r:embed="rId3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899640" y="1483920"/>
            <a:ext cx="7543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2010 AAD Report, and Power Point presentations for both Safety and AAD reports, has been sent by e-mail to all respondents and to all other countries for which the T&amp;S Committee has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1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1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11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7) issued in 2011 by T &amp; S Committee of IP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200" spc="-1" strike="noStrike">
                <a:solidFill>
                  <a:srgbClr val="ffffff"/>
                </a:solidFill>
                <a:latin typeface="Arial"/>
              </a:rPr>
              <a:t>Learning from the Mistakes of Other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, Skydive Arizona  Accident review 1991 –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by Bryan Burke, S&amp;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10 are requested to make a special effort to do so for 2011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8" descr="logo_ipc_01_trait copie"/>
          <p:cNvPicPr/>
          <p:nvPr/>
        </p:nvPicPr>
        <p:blipFill>
          <a:blip r:embed="rId2"/>
          <a:stretch/>
        </p:blipFill>
        <p:spPr>
          <a:xfrm>
            <a:off x="7021440" y="404640"/>
            <a:ext cx="1328760" cy="93672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10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8-11-04T20:16:36Z</dcterms:modified>
  <cp:revision>80</cp:revision>
  <dc:subject/>
  <dc:title>SAFETY &amp; TRAINING FORUM 25 January 2003</dc:title>
</cp:coreProperties>
</file>