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B0489-00DA-4324-ACD4-19E4A7A917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DFF08-A7F2-4F2B-958F-474E10799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F678-D384-4C00-9F4B-5E139D46C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F504-F884-4B0D-802B-BDEF81727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D8D2-FC40-4C3F-AF1A-9852C1691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F5C7-BA49-4488-9932-11590CBEB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3675F-FABD-49BC-B4B3-2F810AF81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1292C-8165-4078-B955-6C3D0B4AB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87B03-8209-4244-8BCB-2C63B1FBE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C2D0A-11FB-42F0-AEF0-0ED45B2F8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B2C0F-E517-4758-8BA8-A603693A7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A18B1-1D24-4A2E-AAA2-24F771D2A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52526-A2D6-42E7-9A96-654D8609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8F0F-A81C-4F12-A4A1-D4788F25E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A4AB0-5E62-4205-8581-281A42D5F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91039-2911-4523-B371-F12BEE5E9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5EF54-4820-44F2-AB7B-8ED909DA8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C7EF8-5F62-4899-B44E-DEA8D77E2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4F404-0CB9-445C-A05C-DFB369EED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E6B48-12EF-4D6D-936B-4D079FDB1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73695-26A0-4CB7-A3B3-155E100CF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EF61F-4F36-4ECD-B9B8-6A4D67B41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970B9-F53A-4B24-A5C4-73359C53E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0D3AC-9812-4C43-A09D-52FE3AB25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72F9-02C3-4B71-A0D3-B88E9C022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FEEE4-F161-4117-A1BB-84E6F4EAE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3D6EB-FA53-499D-9EA7-AC62FF5CC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0540C-6E01-4E77-8527-121287B79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5D763-AAA6-43AC-87AA-445E4A60D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62CB8-EEA7-4F69-96CC-2B9719899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42532-A373-4F17-87DA-13DB3D055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9AD5E-4549-4C90-9AB3-A9E145563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2C642-7955-417F-97B8-A3E97CC03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B8E97-499C-4B98-B156-49B83ACA0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247B4-700C-4753-8236-D69D49C55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0891-B584-4F97-8330-311C6A7F9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FC417-E1E8-4AD4-9B2E-BD45F576D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5F441-755E-4E24-9510-E8DE18167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F722D-0E27-4D05-95BF-C1352C7C2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5C541-6878-4F7F-A454-8F9773616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A6529-6F66-49A4-BCDE-78CA6CD0B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8DA20-1FF4-42E8-9229-59D45AA4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042B2-103D-4CBC-8530-F34A7C7F4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DDDB1-21FB-43A8-B62D-D52DFF508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CB81D-7134-4BD5-B8FA-E1500AAFA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C425-4CF7-4FDF-8BF4-7AC5A7995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624A-870F-4946-96BB-2E8791F48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31BA-912E-448E-8401-ABD5134A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F863-7FBD-4517-B9C4-1277F9F5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DC11-A96F-4992-9CCF-C46A75046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EF202-D6B7-46D2-8DF4-E284B652736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47BC3-9F23-41BF-B41B-356117A7557B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6B29D-FF8A-457A-9A0A-474EA866CCE7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954E6-C128-4CE3-A4CF-1684C60ACA1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is and Power Point presentation, has been sent by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who request copi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 CD has the following material -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5 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5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6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6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Information Notices (2) issued in 2016 by the IPC’s Technical &amp; Safety Committe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5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6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37 countries responded, from a possible approximately 85, a response rate of 44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 was similar to previous years and has been about this rate for the 28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5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37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627,023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325,838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0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as one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5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10,450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22,097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60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11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1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11 Intermediate   (1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38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63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6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3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50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6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50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ast Canopies - Intentional Fast Landing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7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 Issu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5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ain/Reserve Entanglement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ain Malfunction, no act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Tandem Fatalit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No pull, AAD fired and cut loop but  no reserve deployment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oot caught on line, cut away, reserve partly opened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Spinning main, reserve deployed 800 ft., no cutawa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edical Issue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Apparent incapacitat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deflated at low altitude, structural failure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ollision with aircraft – jumper over runwa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Turbulence at low altitude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Wingsuit - </a:t>
            </a: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 one wing not closed, vertical descent rate too low       1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to fire AAD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5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500" spc="-1" strike="noStrike" u="sng">
                <a:solidFill>
                  <a:srgbClr val="000000"/>
                </a:solidFill>
                <a:uFillTx/>
                <a:latin typeface="Arial Unicode MS"/>
              </a:rPr>
              <a:t>Total  50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12 - 20% of 6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7 – 12% of 6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Equipment Related issue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6 – 10% of 6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9 (32% of total fatalities, 60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60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41 (68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9 (48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6 (10%) might have been avoided by AAD us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42 (70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Five of the 2015  fatalities were First Jump Students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9 (32% of 60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7.6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455,873 Solo jumps – 1,171, 150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1; Solo Fatalities 59 (60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7-01-17T21:11:37Z</dcterms:modified>
  <cp:revision>112</cp:revision>
  <dc:subject/>
  <dc:title>SAFETY &amp; TRAINING FORUM 25 January 2003</dc:title>
</cp:coreProperties>
</file>