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BFAD-7D7E-4655-B5C4-DBF7A16E7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9E74-5234-41AB-B6FA-1E1D3364D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C7CB-5EFD-46ED-8EE6-25131347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6BDB-88E1-4276-B301-C7336B065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797A-11ED-4676-B31E-7ACFD858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6FF08-88F5-4DAC-BADC-46CA6472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1DE56-8CA7-4D90-A07A-9F94A3F5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016A7-8A09-416E-8200-F56C8C6A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8642B-81C4-499D-A6C5-20CF567F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F554D-0283-4519-9F1E-9587484D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51E3C-BF2D-41F5-B64E-C1754085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32043-FFE0-47E7-9207-9E53972A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0D90-7C49-427D-A427-F0047647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7CE79-2D2A-4EFA-8BE6-514D7C6C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7901F-9A9F-4B85-91E8-2F4FD9E9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C02B1-5942-472A-86BE-5FE6B6C6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B8145-9DA0-4538-91DC-06DCE1E1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89021-289C-45D1-84CA-FAF73269C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F610-AED8-48FE-B6B1-387DCE5B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F894-4243-48FC-B752-0155C693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380B-E1A0-4771-A040-1A6500E9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FE51-17F0-4CFA-83A6-A4EFD732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DDE5-970A-47E1-9865-0324F53B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E39D-CF01-426C-9E79-D0E36F20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EF5A-4BFE-4977-9C18-262AF08F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1993-38E3-4018-B01D-BA48E7281B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86D1-619A-47E8-8CD2-CEF02FAA16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ternational Parachuting Commis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IE" sz="4800" spc="-1" strike="noStrike">
                <a:solidFill>
                  <a:srgbClr val="ffffff"/>
                </a:solidFill>
                <a:latin typeface="Tahoma"/>
              </a:rPr>
              <a:t>2001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In 31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92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6.872,438 skydives were m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17,2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74,700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,534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ffff"/>
                </a:solidFill>
                <a:latin typeface="Tahoma"/>
              </a:rPr>
              <a:t>92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7 Studen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9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3 Interm.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5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42 Exper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46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51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utaway/No or low reserve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No pull/low pull on mai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Other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Other ‘ Fatalities (6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Other Landing Error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 Mal. – no cutaway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Jumpers striking aircraft in ai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edical (Heart attacks)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apse near Ground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Reserve mal.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trangulation by reserve rise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24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Low Cutaw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Main/Reserve Entangl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No/low Main Canopy Activatio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Tahoma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84% of the fatalities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40%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35% of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94% of fatalities would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Tahoma"/>
              </a:rPr>
              <a:t>12 of the 92 Fatalities were First Jump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Noticeabl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Report, along with 2001 AAD Report, has been sent by e-mail to all respondents and to all other countries for which we have e-mail addresses.  Hard copie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3-01-29T10:35:12Z</dcterms:modified>
  <cp:revision>7</cp:revision>
  <dc:subject/>
  <dc:title>SAFETY &amp; TRAINING FORUM 25 January 2003</dc:title>
</cp:coreProperties>
</file>