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869FC-298B-4CD2-8083-411364121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4FD5-305E-4742-8A5C-80EC3DA76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A43A-39E2-46CD-9B01-44EC7BB2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BC97-743F-4037-8977-DAA3F4D86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0318-9C7F-4E87-B151-C502ACF8D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8C415-08D6-4D0A-9D5F-12FC72354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3FA35-E573-46B7-BF28-6FA27C772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1238C-A5D1-4EFD-A754-284BDB383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17F85-6301-4579-9B00-AF0135F96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2B00C-9721-4465-B74B-931851E1E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6B3D8-67A0-433B-B6F5-C0B882C37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EABB5-55C6-44D5-BD13-BCFB6CAB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F4E8-DE67-4C28-86AC-D0C39E2AE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B1A33-4E6A-479A-8C34-2788506C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F7610-44E6-47FD-BFFE-528AA391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56F33-8BE3-450C-A241-BFDE63881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2540C-41CE-4251-8B97-3A0908833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C47B8-ABD1-4895-A723-D457CC35A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67BB-4CF2-4947-B82A-97366E98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C5A8-872B-42B3-A9AC-303AB9B66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74FF-B42B-4A0D-8D9C-89DC5138B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46C9-C5F8-4F8A-AE68-BE5FAED76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3EE5-117E-4771-8C16-DC7484B8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0CF2-C651-435A-9762-4252FB3C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0971-F4ED-448F-A1BB-E9B17296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A95AE-02E6-40F1-80AC-B0BEB7C7F7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67046-2B89-4E0B-B58D-D3815E3F24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4.jpe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5905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2006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6929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9 countries supplied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,958,194 skydives were made 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832,683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1 people were killed skydi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16,827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6,327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51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1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2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9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18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1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60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Other’ Fatalities (37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4232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under open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utaway and bag-lock on reserv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lfunction of deploy. device, no reserve act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under two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Rotation under canopy until impac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on opening (CF jump)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edical problem &amp; impact with building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3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3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620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772164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1% (16) Fast Canop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8% (  9) No or Low Main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Acti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0% each ( 5 each) Other Landing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Errors and Equipment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Some Significant Fig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7 of the 51 fatalities (73%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1 of the 51 fatalities (41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0 of the 51 fatalities (20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41 of the 51 fatalities (80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5 of the 51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2 of the 51 Fatalities were Tandem, Instructor &amp; Stud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7416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 – a continuing iss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creased use of AAD shows in relatively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No/low pull on main, cutaway and no/low reserve pull accounted for 27% of fatalities in 2006 – AAD may have reduced this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Tandems 12.2% against all Solo jumps  in 2006 – 10.4% in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,311,515 Solo jumps – 646,679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Tandems ratio to other types of First Jump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0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S/L, IAD/JAD, AFF combined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 Fatalities 2 (4%)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Solo Fatalities 49 (96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6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Protective Headwear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Bulletins (2) issued in 2007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7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7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7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ose countries who did not report for 2006 are earnestly requested to make a special effort to do so for 2007.  The compilation of data is to the benefit of the country gathering same, not just to IPC and the worldwide skydiving community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854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7164360" y="333360"/>
            <a:ext cx="1655640" cy="10796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826920" y="62064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08-01-16T08:38:04Z</dcterms:modified>
  <cp:revision>48</cp:revision>
  <dc:subject/>
  <dc:title>SAFETY &amp; TRAINING FORUM 25 January 2003</dc:title>
</cp:coreProperties>
</file>