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D5E1-ABBC-47B9-97EE-649080B5C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D94F-5863-43EA-8E9E-DC42E90E3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2E2D-C842-434A-93F8-9170BB92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548A-FF15-47AA-B396-A466EB27F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EA91-AB8F-46DB-9B02-93CB386DB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E267-B7EC-4775-9E06-5ABBEA964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4CFD-E8DB-43EC-BB31-6CEC8187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8EF3-0D9D-4DC5-9D15-5B073593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4291-8B84-40F3-96F2-91F0D7C4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6D5F-45BE-4F62-97AD-47168F4D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CDC2-7444-4BEF-9BF5-3254B9AC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46AD-7972-4869-AEB4-58A47D37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0AB3-9669-48D2-B3C4-F567BD4D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7D8D-64B3-47C1-B270-B7D0B42F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2DF2-6FAE-4FC7-A398-DB62EEAE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E9E5-6C9B-4B3F-93F7-ACF17FD8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1246-F0BF-44FD-B85F-8C22AF178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9DDD-8EFD-4F11-BCA6-F8BC7209C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D892-CDFE-4E26-B64E-04FF96D0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338A-8131-4E89-8148-5FBE3AED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0FE6-CBE2-4308-B120-4C997B6E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4BD0-15BF-4BC5-ABAC-0896B997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1579-BD77-44BA-A4FC-8BF67BFB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F61F-FD86-49CC-9F5C-823B97A9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BA6D-67ED-4863-9A61-7E493A89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7703-A177-47F0-92FB-EA907DAFFD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7851-DEF9-4237-A24E-D211B7A992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08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4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770,169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18,436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70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2,43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3,121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70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8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3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9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915920"/>
            <a:ext cx="742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Equipment issues/problem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Hard Openings –  1 dead on landing, 1 ruptured aorta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Low Canopy Collision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ut of sequence Reserve Deploy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7093080" y="765000"/>
            <a:ext cx="151128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18920" y="2349000"/>
            <a:ext cx="5977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7 – 24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11 – 16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Medical Issues   8 – 11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8 of the 70 fatalities (69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5 of the 70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70 fatalities (14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7 of the 70 fatalities (67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8  (11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70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  8.6%) of the 70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35 – 50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minimum 8 – 11.4%.  See Medical Requirements Survey Report by T&amp;S Committee and Elisabet Pettersson presentation –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Medical and Disability Considerations in Skydiv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2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 in 2007; 12.2% in 2006; 10.4% in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073,891 Solo jumps – 696,278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6 (8.6%)       Solo Fatalities 64 (91.4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8 AAD Report, and Power Point presentations for both reports, has been sent by e-mail to all respondents and to all other countries for which we have e-mail addresses.  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9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6) issued in 2009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Medical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Medical &amp; Disability Considerations in Parachuting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 – Presentation by Ms Elisabet Petters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8 are requested to make a special effort to do so for 2009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0-01-21T12:56:55Z</dcterms:modified>
  <cp:revision>62</cp:revision>
  <dc:subject/>
  <dc:title>SAFETY &amp; TRAINING FORUM 25 January 2003</dc:title>
</cp:coreProperties>
</file>