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58B63-AB86-4B54-BC7D-576EE2D3A2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090D5-C0F6-4E0B-B3E8-D6D0673F6F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F2D76-71F3-400C-A3DC-5372E8BFB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40AE4-B673-4CDE-A3C8-F894EC80E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DFB30-B463-4355-A513-48550EA0B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59AB6-9EB3-49A5-86A6-FB70EDA5A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F722B-8106-4408-9B55-741FB1451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154D0-5E59-41EC-AF1E-26CFE6452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C9581-4828-45E2-839D-4F8266482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1B314-F97B-40E7-AE80-E65F0BCF8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AA610-A185-439E-A4DC-BB92804DE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C4662-E4A9-474E-9BC4-1CD1D2401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081F2-E835-41C1-AE93-C652F527B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957CE-9488-4288-8E2E-EFFE62BDA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BA522-D6C7-42DB-8E53-CF8EC0902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E7C6A-F2D9-4B0E-B9B2-2B2C88705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4BE8D-18DE-48D5-8109-271EB20F5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C3712-3116-4982-A669-C651DE864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C72C9-F1B3-49A1-8346-B650E22B2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F00FC-5E2F-438A-A8A7-141761CFF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29DA2-C208-40B8-A350-9B38AD2F0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1E0E8-8560-459C-AE90-A27450D4E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8FBF6-CCE2-4432-B8FA-E6168F6FE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ED203-4470-4CE7-9E18-DACF4452C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7CB46-581E-4EF4-8CF9-00543E08A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E1054-84CF-4C3A-9322-AC5AB1BC3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98543-3E11-4C62-A6A3-05F7CA74DB38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3F031-D9B9-41F8-AACB-941191D8565D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Rectangle 2" descr=""/>
          <p:cNvPicPr/>
          <p:nvPr/>
        </p:nvPicPr>
        <p:blipFill>
          <a:blip r:embed="rId1"/>
          <a:stretch/>
        </p:blipFill>
        <p:spPr>
          <a:xfrm>
            <a:off x="822240" y="1841400"/>
            <a:ext cx="8407440" cy="195588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619280" y="3499920"/>
            <a:ext cx="7345440" cy="15843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83763"/>
                </a:solidFill>
                <a:latin typeface="Arial Unicode MS"/>
              </a:rPr>
              <a:t>International Skydiving Commission, FAI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5" descr="https://gallery.mailchimp.com/3f9c3d1fbda98e709fb819a78/images/020fe80e-dcce-4c88-b3f0-65c696acaf2f.jpg"/>
          <p:cNvPicPr/>
          <p:nvPr/>
        </p:nvPicPr>
        <p:blipFill>
          <a:blip r:embed="rId2"/>
          <a:stretch/>
        </p:blipFill>
        <p:spPr>
          <a:xfrm>
            <a:off x="6156360" y="765000"/>
            <a:ext cx="1760400" cy="10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50560" y="704880"/>
            <a:ext cx="8713800" cy="852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04617b"/>
                </a:solidFill>
                <a:latin typeface="Calibri"/>
              </a:rPr>
              <a:t>Thanks – and Report Distribution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99640" y="1557360"/>
            <a:ext cx="75438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anks are extended to all who sent data for this 2018 Safety Report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is Report, along with the Power Point presentation, and material listed below, has been sent by e-mail to all respondents and to all other countries for which the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&amp;S Committee has e-mail addresses, and by e-mail to all ISC Delegates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2018Safety Survey Report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2018 Safety Survey Report Power Point Presentation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Safety Survey 2019 Form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Safety Survey 2019 Notes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Parachuting Aircraft Incidents/Accidents Report 2019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PPEAL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ose countries who did not report for 2018 are requested to do so for 2019. 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e compilation of data is to the benefit of the country gathering the data,  and to the worldwide skydiving community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35" name="Picture 5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7308720" y="620640"/>
            <a:ext cx="147168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Title 1" descr=""/>
          <p:cNvPicPr/>
          <p:nvPr/>
        </p:nvPicPr>
        <p:blipFill>
          <a:blip r:embed="rId1"/>
          <a:stretch/>
        </p:blipFill>
        <p:spPr>
          <a:xfrm>
            <a:off x="73080" y="469800"/>
            <a:ext cx="8620200" cy="114624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68000" y="2133360"/>
            <a:ext cx="8280360" cy="38163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  <a:ea typeface="Arial"/>
              </a:rPr>
              <a:t>42 countries responded, from a possible approximately 85, a response rate of 49%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  <a:ea typeface="Arial"/>
              </a:rPr>
              <a:t>The response rate was similar to previous years and has been about this rate for the 32 years of the Safety Survey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000000"/>
                </a:solidFill>
                <a:latin typeface="Arial"/>
                <a:ea typeface="Arial"/>
              </a:rPr>
              <a:t>Countries are encouraged to put in place systems for the collection of safety data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000000"/>
                </a:solidFill>
                <a:latin typeface="Arial"/>
                <a:ea typeface="Arial"/>
              </a:rPr>
              <a:t>Such data is invaluable  - for use by parachuting organisations, dropzones, those involved in the areas of technical and safety matters, and when dealing with authoritie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08" name="Picture 6" descr="https://gallery.mailchimp.com/3f9c3d1fbda98e709fb819a78/images/020fe80e-dcce-4c88-b3f0-65c696acaf2f.jpg"/>
          <p:cNvPicPr/>
          <p:nvPr/>
        </p:nvPicPr>
        <p:blipFill>
          <a:blip r:embed="rId2"/>
          <a:stretch/>
        </p:blipFill>
        <p:spPr>
          <a:xfrm>
            <a:off x="6516720" y="620640"/>
            <a:ext cx="1511280" cy="10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71640" y="479520"/>
            <a:ext cx="5905440" cy="699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2018 Safety Report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6920" y="1699920"/>
            <a:ext cx="692964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3200" spc="-1" strike="noStrike">
                <a:solidFill>
                  <a:srgbClr val="000000"/>
                </a:solidFill>
                <a:latin typeface="Arial"/>
                <a:ea typeface="Arial"/>
              </a:rPr>
              <a:t>42countries supplied data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6,364,651 skydives were made by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1,527,205 jumper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44 people were killed skydiving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(these figures include Tandems; there was on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andem fatalitiy in 2018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1 Fatality per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144,651 Jumps   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34,709 Jumpe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11" name="Picture 6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588000" y="620640"/>
            <a:ext cx="1440000" cy="97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4608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44 Fatalities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79912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4 Student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  (9%)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0-25 Freefall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3 Intermediate     (30%)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26-250 Freefall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27 Expert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(61%)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251 + Freefall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44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utaway &amp; Low/No Reserve pull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5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No pull/low pull on main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2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Other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37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 44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648320" y="1599840"/>
            <a:ext cx="403848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6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443640" y="620640"/>
            <a:ext cx="1655640" cy="101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64800" y="430200"/>
            <a:ext cx="544356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‘</a:t>
            </a: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Other’ Fatalities (37)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99640" y="1628280"/>
            <a:ext cx="74170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Intentional Fast Landings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7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Freefall Collision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6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Medical Issues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6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Equipment Entanglement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Other Landing Errors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Spinning main, cutaway &amp; reserve malfunction 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AAD Fire &amp; Reserve Malfunction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Drowning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Collision with Aircraft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Jumper spun on back, Reserve handle pulled,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Reserve did not deploy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Canopy Collision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Tandem Fatality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IE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 37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19" name="Picture 5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372360" y="620640"/>
            <a:ext cx="1584360" cy="97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15640" y="980640"/>
            <a:ext cx="6985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Fatalities – Largest Groups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4360" y="2133720"/>
            <a:ext cx="799128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Intentional Fast Landings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7 – 16% of 44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2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Medical Issues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6 – 14% of 44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886680" indent="-2646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Freefall Collision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6 -  14% of 44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3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Equipment Entanglement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5 –  11% of 44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886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Other Landing Error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5 –  11% of 44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886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anopy handling issues, combined –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2 (27% of total fatalities, 44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22" name="Picture 5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372360" y="620640"/>
            <a:ext cx="1584360" cy="9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42920" y="417600"/>
            <a:ext cx="5749920" cy="9525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Significant Figures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68000" y="1915920"/>
            <a:ext cx="8002440" cy="38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00280" indent="-343080" algn="ctr">
              <a:lnSpc>
                <a:spcPct val="80000"/>
              </a:lnSpc>
              <a:spcBef>
                <a:spcPts val="649"/>
              </a:spcBef>
              <a:buClr>
                <a:srgbClr val="e2d700"/>
              </a:buClr>
              <a:buSzPct val="85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600" spc="-1" strike="noStrike">
                <a:solidFill>
                  <a:srgbClr val="000000"/>
                </a:solidFill>
                <a:latin typeface="Arial Unicode MS"/>
              </a:rPr>
              <a:t>OF THE 44 FATALITI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 Unicode MS"/>
              </a:rPr>
              <a:t>24 (55%) appear to have occurred with the parachutist having at least one good parachute on his/her back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 Unicode MS"/>
              </a:rPr>
              <a:t>15(34%) occurred after the successful deployment of the main parachute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 Unicode MS"/>
              </a:rPr>
              <a:t>AAD would not have prevented any of the fatalitie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 Unicode MS"/>
              </a:rPr>
              <a:t>30 (68%) appear to have been caused by human error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000000"/>
                </a:solidFill>
                <a:latin typeface="Arial Unicode MS"/>
              </a:rPr>
              <a:t>                </a:t>
            </a:r>
            <a:r>
              <a:rPr b="1" i="1" lang="en-IE" sz="2000" spc="-1" strike="noStrike" u="sng">
                <a:solidFill>
                  <a:srgbClr val="000000"/>
                </a:solidFill>
                <a:uFillTx/>
                <a:latin typeface="Arial Unicode MS"/>
              </a:rPr>
              <a:t>None of the 2018 fatalities were First Jump Students</a:t>
            </a:r>
            <a:r>
              <a:rPr b="1" i="1" lang="en-IE" sz="20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26" name="Picture 5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372360" y="620640"/>
            <a:ext cx="1761840" cy="10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71640" y="691920"/>
            <a:ext cx="5904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Some Trends &amp; Issues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71640" y="1990800"/>
            <a:ext cx="741672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ontinuing high percentage of fatalities, 12 (27% of 44) resulting from canopy handling, canopy control, and landing issu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Roughly similar percentage distribution of fatalities between Student/Intermediate/Expert as in previous years .  The category ‘Expert Skydiver’ continues to have the most fatalities, but it has the biggest numbers of jump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AAD and RSL are both now widely used, as all level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29" name="Picture 5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804000" y="692280"/>
            <a:ext cx="1584360" cy="97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71640" y="277560"/>
            <a:ext cx="56656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Tandem - Solo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539640" y="2276280"/>
            <a:ext cx="8229600" cy="2376360"/>
          </a:xfrm>
          <a:prstGeom prst="rect">
            <a:avLst/>
          </a:prstGeom>
          <a:noFill/>
          <a:ln w="9360">
            <a:solidFill>
              <a:srgbClr val="0f6fc6"/>
            </a:solidFill>
            <a:miter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s 19% of </a:t>
            </a:r>
            <a:r>
              <a:rPr b="1" lang="en-IE" sz="2400" spc="-1" strike="noStrike" u="sng">
                <a:solidFill>
                  <a:srgbClr val="000000"/>
                </a:solidFill>
                <a:uFillTx/>
                <a:latin typeface="Arial Unicode MS"/>
              </a:rPr>
              <a:t>all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jumps, Tandem + Sol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5,056,227Solo jumps – 1,527,205 Tandem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 Fatalities 1; Solo Fatalities 43 (44 total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32" name="Picture 4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372360" y="692280"/>
            <a:ext cx="1655640" cy="101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</cp:lastModifiedBy>
  <dcterms:modified xsi:type="dcterms:W3CDTF">2020-01-20T16:21:36Z</dcterms:modified>
  <cp:revision>139</cp:revision>
  <dc:subject/>
  <dc:title>SAFETY &amp; TRAINING FORUM 25 January 2003</dc:title>
</cp:coreProperties>
</file>