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4C88-8F11-4683-8548-7006875D4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7F4D-B03A-4686-AC2D-021BAE5D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2986-03A1-472F-938A-DA45FF96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BF70-6053-4F12-B7DF-6E88D6DC9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1F84-1A5D-46A4-8176-B0CAA75A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C2A4-DA78-4A8D-B5AF-5724FD56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CCDB-7E6C-4F9B-B851-7933BBC2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641A-7062-4943-9FAF-D4ECCEFB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562C-B25A-4E09-ACFE-EA753678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574A-D0C6-49C4-A2CF-499839C9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9C33-04B4-4BF7-99FE-0722EC71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AF9E-2C2E-4645-A0C3-734F2C53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16DE-F219-48F3-B73F-317A0B66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5668-EED5-4207-BAB6-B4099D42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E92A-814F-4F43-B721-8E1D9F27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AA81-5A88-4801-953C-771A845E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F7B5-8E9E-496B-B3A4-FE66FF84D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1413-6EF0-493F-BADC-2148CADA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0DDD-7453-432D-971F-C64AAA25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6EC1-5503-4840-8E30-DFA1B756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F150-67F9-4E03-B415-E9D23555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CA17-45F5-4450-9839-72776B30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2935-51A5-4104-8034-FBE8C5E3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6A4B-BB06-4FAF-A6FF-80DB359E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2CEF-E9EE-4EE8-AFBE-42B8774BE21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FC4F-39B7-4A0B-9694-F39143CD921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Nomination for </a:t>
            </a:r>
            <a:br>
              <a:rPr sz="3600"/>
            </a:b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Santos Dumont Gold Airship Medal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544500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Leonid TYUKHTYAE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SSI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68360" y="1870200"/>
            <a:ext cx="5183280" cy="3454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2b2b2"/>
                </a:solidFill>
                <a:latin typeface="Arial"/>
              </a:rPr>
              <a:t>Leonid TYUKHTYAEV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24360" y="2492280"/>
            <a:ext cx="4757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 of birth – 21 of June, 19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allooning from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-air &amp; Gas balloons and Airship pil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ional Absolute Altitude Record holder (Class 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Alternate in CIA F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0840" y="1413000"/>
            <a:ext cx="33289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167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394600" cy="4125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2519280" cy="1681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63640" y="3571920"/>
            <a:ext cx="2160720" cy="21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03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istance - 99.136 km (FAI Database ID 1524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24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uration - 5 h 5 min (FAI Database ID 1524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689440" cy="381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ussian Records Fac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3640" y="1341000"/>
            <a:ext cx="4753080" cy="432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175280" cy="4174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5805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Records Factory was established b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YUKHTYAE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2006 to help Russian and former-USSR pilots with national and world rec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 Federation of Aeronautics of Russia consid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that the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ld recor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lights are an outstanding performance in airships and proudly pres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YUKHTYAEV as a candidate for the Santos Dumont Gold Airship Med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111480" cy="446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2422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8:47:31Z</dcterms:created>
  <dc:creator>Stanislaw Fuodoroff</dc:creator>
  <dc:description/>
  <dc:language>en-US</dc:language>
  <cp:lastModifiedBy>Stanislaw Fuodoroff</cp:lastModifiedBy>
  <dcterms:modified xsi:type="dcterms:W3CDTF">2010-03-13T08:47:47Z</dcterms:modified>
  <cp:revision>19</cp:revision>
  <dc:subject/>
  <dc:title>Nomination for  Santos Dumont Gold Airship Medal </dc:title>
</cp:coreProperties>
</file>