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A9C68-3906-4EA3-96BF-F230E2A5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79E15-6851-4C9D-956F-FFE5A984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02CD0-B5FA-48C1-87FB-42B450E3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8A63E-B623-429F-980C-D3D836A0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1575A-4898-4A34-96CB-629A0523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BB215-1361-4E09-832E-8C358F41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B8EF3-83F0-4FBB-8B5D-97F48A3C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99E5C-A718-4313-B985-5E245DF8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835CD-852F-451A-B557-80F17CA4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DE60E-EA23-4E22-819C-CD5B3E76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13DC8-26B0-4691-A893-1AB7AB693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8B870-6863-408A-94D7-633A47EC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8AD5DC-1B39-4152-9D7E-5997EA7E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3F14FE-00D1-405C-9302-652D7F55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2888E5-7B8A-4485-B585-F84385F8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DE4794-A758-460A-8457-732CDEB6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33D8D2-25C3-4B8A-9A0B-424DD7AB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4AB907-627C-4960-8729-EBD950E9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520FFC-E5B0-4C0B-B466-B11E9049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6FA99A-A094-4F0C-877A-1EAA4FC1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AEB886-BC64-438B-9F8A-EE581950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1DC5CC-01C8-495E-A099-2FD6C022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124848-DE48-4DC2-A62B-BA648262A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1A1A85-BBF4-4409-9D36-F26759D8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DF6B8B-A753-4C73-80B7-7B2831D7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3B67E6-0C83-4707-83CB-DE0F9988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75EF84-384F-4CAB-BE88-390CD924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D2C8D5-E65F-41EE-955C-65F4B224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BB0A2D-E2CB-4F52-8047-D77AF3E9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6F8728-D3E2-4584-8211-2A8AE789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C37DA4-9C15-4053-A964-3762C757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7ED39B-3417-4B80-BB77-18161F69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C769FF-2B3A-4641-8850-A06B42AD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322137-D763-4856-8476-147F311B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6BA8F0-64F0-4DDB-A1DB-EAC2FC4A3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2C2C7A-DB0A-4A0F-A657-A4A8D43A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10FE10-5CE5-4F8F-A3CE-EF0A1D5B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23A1D6-47A1-4277-BAE2-567887AF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C6E9F8-5B85-4942-98D3-E492D5AC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2E1809-7EC1-4F93-BE37-C37D8519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F0FAA6-99B0-46AF-8C83-B39EA2FB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41B7D1-8F90-49F6-81D0-E07E9B65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CDAB49-1C28-413F-870F-98F5CE02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259CF0-8D8E-4560-AC39-D4B53F30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5F6DE1-0F90-48B8-8FF2-2D907F50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569B5F-CAA8-45F0-A8E3-C5C78056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32BC98-5F93-4E83-BD1A-149750D1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36A418-29F3-4AF4-AF62-0340478A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B584-DB96-46D9-9A36-2105EF6B3C3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09AD-57B1-450C-B17B-DEA1EBDED537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A02A-7AD7-49DD-947D-500C4E011EC4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A40C-77EA-456D-91D8-5EF8F675245C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0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AB77-F866-4499-9E78-3E17A992046F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7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0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1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2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4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D60E-591B-4052-8C8D-C4D1A9B0FF6E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AB5C-1A33-4998-A516-3FCB977271E9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50FE-AFDA-42E9-9CD4-EA6C8925F45A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E2F4-49B2-4743-BEB9-4016BC4FA3D9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1B91-D229-4EC6-A6A4-3CFF02B7664D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342D-1F94-4A26-863A-741C82F3D2F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80D2-D3EB-463C-8A13-9E6BEEEF6E4A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inancing Op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5219640" y="256536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826920" y="256392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spons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471636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xternal inv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6948360" y="4724280"/>
            <a:ext cx="2016360" cy="1224000"/>
          </a:xfrm>
          <a:prstGeom prst="rect">
            <a:avLst/>
          </a:prstGeom>
          <a:solidFill>
            <a:srgbClr val="e076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tern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FAI/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NA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event organiz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2411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a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79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AutoShape 9"/>
          <p:cNvCxnSpPr>
            <a:stCxn id="390" idx="2"/>
            <a:endCxn id="394" idx="0"/>
          </p:cNvCxnSpPr>
          <p:nvPr/>
        </p:nvCxnSpPr>
        <p:spPr>
          <a:xfrm rot="5400000">
            <a:off x="1258920" y="3572640"/>
            <a:ext cx="1080000" cy="1224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6" name="AutoShape 10"/>
          <p:cNvCxnSpPr>
            <a:stCxn id="390" idx="2"/>
            <a:endCxn id="393" idx="0"/>
          </p:cNvCxnSpPr>
          <p:nvPr/>
        </p:nvCxnSpPr>
        <p:spPr>
          <a:xfrm flipH="1" rot="16200000">
            <a:off x="2374560" y="3680280"/>
            <a:ext cx="1080000" cy="1008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7" name="AutoShape 11"/>
          <p:cNvCxnSpPr>
            <a:stCxn id="389" idx="2"/>
            <a:endCxn id="391" idx="0"/>
          </p:cNvCxnSpPr>
          <p:nvPr/>
        </p:nvCxnSpPr>
        <p:spPr>
          <a:xfrm rot="5400000">
            <a:off x="5724720" y="3645360"/>
            <a:ext cx="1078200" cy="108036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8" name="AutoShape 12"/>
          <p:cNvCxnSpPr>
            <a:stCxn id="389" idx="2"/>
            <a:endCxn id="392" idx="0"/>
          </p:cNvCxnSpPr>
          <p:nvPr/>
        </p:nvCxnSpPr>
        <p:spPr>
          <a:xfrm flipH="1" rot="16200000">
            <a:off x="6841440" y="3608640"/>
            <a:ext cx="1078200" cy="115344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9" name="AutoShape 13"/>
          <p:cNvCxnSpPr>
            <a:stCxn id="388" idx="2"/>
            <a:endCxn id="390" idx="0"/>
          </p:cNvCxnSpPr>
          <p:nvPr/>
        </p:nvCxnSpPr>
        <p:spPr>
          <a:xfrm rot="5400000">
            <a:off x="3170880" y="1278000"/>
            <a:ext cx="526320" cy="2046960"/>
          </a:xfrm>
          <a:prstGeom prst="bentConnector3">
            <a:avLst>
              <a:gd name="adj1" fmla="val 49828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0" name="AutoShape 14"/>
          <p:cNvCxnSpPr>
            <a:stCxn id="388" idx="2"/>
            <a:endCxn id="389" idx="0"/>
          </p:cNvCxnSpPr>
          <p:nvPr/>
        </p:nvCxnSpPr>
        <p:spPr>
          <a:xfrm flipH="1" rot="16200000">
            <a:off x="5366520" y="1128600"/>
            <a:ext cx="527760" cy="2346840"/>
          </a:xfrm>
          <a:prstGeom prst="bentConnector3">
            <a:avLst>
              <a:gd name="adj1" fmla="val 49965"/>
            </a:avLst>
          </a:prstGeom>
          <a:ln w="1908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6"/>
          <p:cNvSpPr/>
          <p:nvPr/>
        </p:nvSpPr>
        <p:spPr>
          <a:xfrm>
            <a:off x="2627280" y="2565360"/>
            <a:ext cx="1008000" cy="422280"/>
          </a:xfrm>
          <a:prstGeom prst="rightArrow">
            <a:avLst>
              <a:gd name="adj1" fmla="val 56463"/>
              <a:gd name="adj2" fmla="val 6691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1"/>
          <p:cNvSpPr/>
          <p:nvPr/>
        </p:nvSpPr>
        <p:spPr>
          <a:xfrm>
            <a:off x="2627280" y="380052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2"/>
          <p:cNvSpPr/>
          <p:nvPr/>
        </p:nvSpPr>
        <p:spPr>
          <a:xfrm rot="10800000">
            <a:off x="2627280" y="40640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3"/>
          <p:cNvSpPr/>
          <p:nvPr/>
        </p:nvSpPr>
        <p:spPr>
          <a:xfrm>
            <a:off x="2627280" y="487980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b170"/>
          </a:solidFill>
          <a:ln w="2556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4"/>
          <p:cNvSpPr/>
          <p:nvPr/>
        </p:nvSpPr>
        <p:spPr>
          <a:xfrm rot="10800000">
            <a:off x="2627280" y="5143320"/>
            <a:ext cx="1008000" cy="301320"/>
          </a:xfrm>
          <a:prstGeom prst="rightArrow">
            <a:avLst>
              <a:gd name="adj1" fmla="val 40093"/>
              <a:gd name="adj2" fmla="val 93776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9"/>
          <p:cNvSpPr/>
          <p:nvPr/>
        </p:nvSpPr>
        <p:spPr>
          <a:xfrm>
            <a:off x="5580000" y="22874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0"/>
          <p:cNvSpPr/>
          <p:nvPr/>
        </p:nvSpPr>
        <p:spPr>
          <a:xfrm rot="10800000">
            <a:off x="5580000" y="255096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24"/>
          <p:cNvGrpSpPr/>
          <p:nvPr/>
        </p:nvGrpSpPr>
        <p:grpSpPr>
          <a:xfrm>
            <a:off x="5580000" y="3530520"/>
            <a:ext cx="1008000" cy="545400"/>
            <a:chOff x="5580000" y="3530520"/>
            <a:chExt cx="1008000" cy="545400"/>
          </a:xfrm>
        </p:grpSpPr>
        <p:sp>
          <p:nvSpPr>
            <p:cNvPr id="409" name="AutoShape 25"/>
            <p:cNvSpPr/>
            <p:nvPr/>
          </p:nvSpPr>
          <p:spPr>
            <a:xfrm>
              <a:off x="5580000" y="353052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26"/>
            <p:cNvSpPr/>
            <p:nvPr/>
          </p:nvSpPr>
          <p:spPr>
            <a:xfrm rot="10800000">
              <a:off x="5580000" y="37731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27"/>
          <p:cNvGrpSpPr/>
          <p:nvPr/>
        </p:nvGrpSpPr>
        <p:grpSpPr>
          <a:xfrm>
            <a:off x="5580000" y="4797360"/>
            <a:ext cx="1008000" cy="545400"/>
            <a:chOff x="5580000" y="4797360"/>
            <a:chExt cx="1008000" cy="545400"/>
          </a:xfrm>
        </p:grpSpPr>
        <p:sp>
          <p:nvSpPr>
            <p:cNvPr id="412" name="AutoShape 28"/>
            <p:cNvSpPr/>
            <p:nvPr/>
          </p:nvSpPr>
          <p:spPr>
            <a:xfrm>
              <a:off x="5580000" y="47973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9"/>
            <p:cNvSpPr/>
            <p:nvPr/>
          </p:nvSpPr>
          <p:spPr>
            <a:xfrm rot="10800000">
              <a:off x="5580000" y="504000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Business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 rot="16200000">
            <a:off x="3600360" y="3537000"/>
            <a:ext cx="3456000" cy="503280"/>
          </a:xfrm>
          <a:prstGeom prst="rect">
            <a:avLst/>
          </a:prstGeom>
          <a:solidFill>
            <a:srgbClr val="8da4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rofessional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 rot="16200000">
            <a:off x="2627280" y="3068640"/>
            <a:ext cx="3457440" cy="144144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FAI/CIA ow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6588000" y="206064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826920" y="5805360"/>
            <a:ext cx="7632720" cy="0"/>
          </a:xfrm>
          <a:prstGeom prst="line">
            <a:avLst/>
          </a:prstGeom>
          <a:ln w="316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900000" y="2060640"/>
            <a:ext cx="1727280" cy="13302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AI/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0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900000" y="479124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1951200" y="5967360"/>
            <a:ext cx="155232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ree 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1"/>
          <p:cNvSpPr/>
          <p:nvPr/>
        </p:nvSpPr>
        <p:spPr>
          <a:xfrm>
            <a:off x="900000" y="371160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2"/>
          <p:cNvSpPr/>
          <p:nvPr/>
        </p:nvSpPr>
        <p:spPr>
          <a:xfrm>
            <a:off x="6588000" y="332748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3"/>
          <p:cNvSpPr/>
          <p:nvPr/>
        </p:nvSpPr>
        <p:spPr>
          <a:xfrm>
            <a:off x="6588000" y="4549680"/>
            <a:ext cx="1800360" cy="9669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0"/>
          <p:cNvSpPr/>
          <p:nvPr/>
        </p:nvSpPr>
        <p:spPr>
          <a:xfrm>
            <a:off x="7313760" y="5983200"/>
            <a:ext cx="1008000" cy="327240"/>
          </a:xfrm>
          <a:prstGeom prst="rightArrow">
            <a:avLst>
              <a:gd name="adj1" fmla="val 40093"/>
              <a:gd name="adj2" fmla="val 86348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31"/>
          <p:cNvSpPr/>
          <p:nvPr/>
        </p:nvSpPr>
        <p:spPr>
          <a:xfrm rot="10800000">
            <a:off x="7242120" y="626220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2"/>
          <p:cNvSpPr/>
          <p:nvPr/>
        </p:nvSpPr>
        <p:spPr>
          <a:xfrm>
            <a:off x="5883120" y="5950080"/>
            <a:ext cx="141516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rents 30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4"/>
          <p:cNvSpPr/>
          <p:nvPr/>
        </p:nvSpPr>
        <p:spPr>
          <a:xfrm>
            <a:off x="678960" y="1722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contrib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5"/>
          <p:cNvSpPr/>
          <p:nvPr/>
        </p:nvSpPr>
        <p:spPr>
          <a:xfrm>
            <a:off x="7734600" y="1722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6"/>
          <p:cNvSpPr/>
          <p:nvPr/>
        </p:nvSpPr>
        <p:spPr>
          <a:xfrm>
            <a:off x="977760" y="5975280"/>
            <a:ext cx="1008360" cy="327240"/>
          </a:xfrm>
          <a:prstGeom prst="rightArrow">
            <a:avLst>
              <a:gd name="adj1" fmla="val 40093"/>
              <a:gd name="adj2" fmla="val 86379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7"/>
          <p:cNvSpPr/>
          <p:nvPr/>
        </p:nvSpPr>
        <p:spPr>
          <a:xfrm rot="10800000">
            <a:off x="906480" y="625428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8"/>
          <p:cNvSpPr/>
          <p:nvPr/>
        </p:nvSpPr>
        <p:spPr>
          <a:xfrm rot="16200000">
            <a:off x="168120" y="6103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le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a Contributing NA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14560" y="2998440"/>
            <a:ext cx="7610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Example: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NAC 1 runs nationals with 40 competitors every year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wants to contribute with 20 logger to the device poo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1211400" y="2276640"/>
            <a:ext cx="7464240" cy="696240"/>
            <a:chOff x="1211400" y="2276640"/>
            <a:chExt cx="7464240" cy="696240"/>
          </a:xfrm>
        </p:grpSpPr>
        <p:sp>
          <p:nvSpPr>
            <p:cNvPr id="436" name="Rectangle 6"/>
            <p:cNvSpPr/>
            <p:nvPr/>
          </p:nvSpPr>
          <p:spPr>
            <a:xfrm>
              <a:off x="1258920" y="2323800"/>
              <a:ext cx="7416720" cy="649080"/>
            </a:xfrm>
            <a:prstGeom prst="rect">
              <a:avLst/>
            </a:prstGeom>
            <a:solidFill>
              <a:srgbClr val="4c4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5"/>
            <p:cNvSpPr/>
            <p:nvPr/>
          </p:nvSpPr>
          <p:spPr>
            <a:xfrm>
              <a:off x="1211400" y="2276640"/>
              <a:ext cx="7416720" cy="648720"/>
            </a:xfrm>
            <a:prstGeom prst="rect">
              <a:avLst/>
            </a:prstGeom>
            <a:solidFill>
              <a:srgbClr val="a2c81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000000"/>
                  </a:solidFill>
                  <a:latin typeface="Century Gothic"/>
                </a:rPr>
                <a:t>contribute to the device pool and get 20 free rent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8" name=""/>
          <p:cNvGraphicFramePr/>
          <p:nvPr/>
        </p:nvGraphicFramePr>
        <p:xfrm>
          <a:off x="1260360" y="4483080"/>
          <a:ext cx="3456000" cy="1614600"/>
        </p:xfrm>
        <a:graphic>
          <a:graphicData uri="http://schemas.openxmlformats.org/drawingml/2006/table">
            <a:tbl>
              <a:tblPr/>
              <a:tblGrid>
                <a:gridCol w="1366920"/>
                <a:gridCol w="649440"/>
                <a:gridCol w="14396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nves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ene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x 20 = 400 free r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logger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53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400 free rent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30 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0‘6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2‘0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  <p:sp>
        <p:nvSpPr>
          <p:cNvPr id="439" name="AutoShape 35"/>
          <p:cNvSpPr/>
          <p:nvPr/>
        </p:nvSpPr>
        <p:spPr>
          <a:xfrm>
            <a:off x="2627280" y="5789520"/>
            <a:ext cx="649440" cy="231840"/>
          </a:xfrm>
          <a:prstGeom prst="leftRightArrow">
            <a:avLst>
              <a:gd name="adj1" fmla="val 50000"/>
              <a:gd name="adj2" fmla="val 55765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1"/>
          <p:cNvSpPr/>
          <p:nvPr/>
        </p:nvSpPr>
        <p:spPr>
          <a:xfrm>
            <a:off x="4932360" y="4365720"/>
            <a:ext cx="3816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use the loggers in the next 10 events for 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play an active role in the balloon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has priority access to the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doesn‘t neet to care about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Professional Hand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responsibilitie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shipp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invoice process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function check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minor mainenance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compensation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by case (directly paid by event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on a yearly basis (minor amount paid by device pool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8960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Century Gothic"/>
              </a:rPr>
              <a:t>profile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company with experience in international shipping / customs handling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referably with link to ballooning commun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already two potential volunteer companies available in EU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FAI/C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Group 20"/>
          <p:cNvGrpSpPr/>
          <p:nvPr/>
        </p:nvGrpSpPr>
        <p:grpSpPr>
          <a:xfrm>
            <a:off x="5219640" y="2457360"/>
            <a:ext cx="3744360" cy="2411640"/>
            <a:chOff x="5219640" y="2457360"/>
            <a:chExt cx="3744360" cy="2411640"/>
          </a:xfrm>
        </p:grpSpPr>
        <p:graphicFrame>
          <p:nvGraphicFramePr>
            <p:cNvPr id="446" name=""/>
            <p:cNvGraphicFramePr/>
            <p:nvPr/>
          </p:nvGraphicFramePr>
          <p:xfrm>
            <a:off x="5219640" y="2560680"/>
            <a:ext cx="3144960" cy="2308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19640" y="2560680"/>
                      <a:ext cx="3144960" cy="23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8" name="Text Box 4"/>
            <p:cNvSpPr/>
            <p:nvPr/>
          </p:nvSpPr>
          <p:spPr>
            <a:xfrm>
              <a:off x="7739280" y="4071960"/>
              <a:ext cx="122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amort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5"/>
            <p:cNvSpPr/>
            <p:nvPr/>
          </p:nvSpPr>
          <p:spPr>
            <a:xfrm>
              <a:off x="5526360" y="4060800"/>
              <a:ext cx="81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renew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f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"/>
            <p:cNvSpPr/>
            <p:nvPr/>
          </p:nvSpPr>
          <p:spPr>
            <a:xfrm>
              <a:off x="6180480" y="245736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hand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7"/>
            <p:cNvSpPr/>
            <p:nvPr/>
          </p:nvSpPr>
          <p:spPr>
            <a:xfrm>
              <a:off x="5410080" y="277812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maine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6951600" y="2624040"/>
              <a:ext cx="1285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9"/>
            <p:cNvSpPr/>
            <p:nvPr/>
          </p:nvSpPr>
          <p:spPr>
            <a:xfrm>
              <a:off x="6375240" y="3008160"/>
              <a:ext cx="19224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0"/>
          <p:cNvSpPr/>
          <p:nvPr/>
        </p:nvSpPr>
        <p:spPr>
          <a:xfrm>
            <a:off x="1116000" y="2205000"/>
            <a:ext cx="424800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benefits out of 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ealthy and sustainable bussines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igh return on inve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money payback time: 3.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addition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possible future reven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icence fees through selling of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opportunities for partnerships with media and spons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ensure quality, fairness and attractivity of ballooning 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826920" y="5200560"/>
            <a:ext cx="316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7020000" y="2276640"/>
            <a:ext cx="194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use of income</a:t>
            </a:r>
            <a:br>
              <a:rPr sz="1600"/>
            </a:b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ealthy business model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ustainable projec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ositive project for our ballooning spor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fairnes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qual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ermit additional tasks (FON / PDG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lectronic mark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new posibilities for media partnership / sponsorship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uture additional revenue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08:27Z</dcterms:modified>
  <cp:revision>79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