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E3370-ED4C-4327-8195-8655221B314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9654E-80A2-47D4-8DED-5F1AEBEB4BF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6A1BE-864C-4EB6-9A06-2B1AC57CB72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F04CF-37CF-4C3C-957B-82B59BA8D39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9B9E0-D37B-40D8-A5A0-ED39CC47C6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77CB5-584D-420B-83B6-8E513324666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4E81E-240A-4512-A8D2-A981F3819E0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ADA8F-A422-49B6-91E8-587CCBC0365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54655-C4D3-4686-8B4B-A1134333E90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3DB66-CE94-4A65-A5E9-DCB2A5FF4E3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E6170-CE16-4E88-8D51-B665222BD80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B1F49-2324-4A3F-A97D-E94F8265EC4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8840" y="1434600"/>
            <a:ext cx="7366320" cy="1714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Click to edit the title text format</a:t>
            </a:r>
            <a:endParaRPr b="0" lang="en-US" sz="54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8840" y="3771720"/>
            <a:ext cx="7366320" cy="1307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t">
            <a:normAutofit fontScale="3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Click to edit the outline text format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1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econd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2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Third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3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Four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4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Fif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ix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even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873600" y="3301920"/>
            <a:ext cx="143352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533160" y="1866960"/>
            <a:ext cx="37465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82000"/>
          </a:bodyPr>
          <a:p>
            <a:pPr marL="41652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9768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7884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26000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5308560" y="1866960"/>
            <a:ext cx="33019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78000"/>
          </a:bodyPr>
          <a:p>
            <a:pPr marL="39600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63480" indent="-22788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3096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198440" indent="-22788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533160" y="520200"/>
            <a:ext cx="8064360" cy="582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602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1003320" indent="-44460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3460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689120" indent="-44460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33160" y="194292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/>
          </a:bodyPr>
          <a:p>
            <a:pPr marL="6602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1003320" indent="-444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13460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689120" indent="-444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3160" y="194292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90000"/>
          </a:bodyPr>
          <a:p>
            <a:pPr marL="59400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902880" indent="-3999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21140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519920" indent="-3999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4240" y="977400"/>
            <a:ext cx="3771720" cy="234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44240" y="3619080"/>
            <a:ext cx="3771720" cy="234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 fontScale="7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1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2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3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4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977760" y="3429000"/>
            <a:ext cx="270828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67716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1010160" indent="-43092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34244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675440" indent="-43092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200772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2007720" indent="-430560">
              <a:spcBef>
                <a:spcPts val="7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2007720" indent="-430560">
              <a:spcBef>
                <a:spcPts val="7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5168520"/>
            <a:ext cx="8064360" cy="1104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2540160"/>
            <a:ext cx="8064360" cy="1777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70B4-559B-4990-8F7C-7CE2D4998DB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533160" y="1866960"/>
            <a:ext cx="37465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82000"/>
          </a:bodyPr>
          <a:p>
            <a:pPr marL="41652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9768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7884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26000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124092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VICHY 2012</a:t>
            </a:r>
            <a:br>
              <a:rPr sz="5400"/>
            </a:b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XX° FAI Worlds Hot Air Balloon Championship</a:t>
            </a:r>
            <a:endParaRPr b="0" lang="en-US" sz="54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160" y="2541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650"/>
                </a:solidFill>
                <a:latin typeface="Baskerville"/>
              </a:rPr>
              <a:t>Vichy</a:t>
            </a:r>
            <a:endParaRPr b="0" lang="en-US" sz="4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3160" y="192996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98400" indent="-44424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Vichy is situated in the center of France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38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2008 French Nationals was run in this city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1041480" indent="-444600">
              <a:spcBef>
                <a:spcPts val="38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51 pilots – 6 flights – 14 tasks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849240" y="968400"/>
            <a:ext cx="7442280" cy="55879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181080" y="135000"/>
            <a:ext cx="86486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Baskerville"/>
              </a:rPr>
              <a:t>2008 French Nationals General Briefing</a:t>
            </a:r>
            <a:endParaRPr b="0" lang="en-US" sz="36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"/>
          <p:cNvGrpSpPr/>
          <p:nvPr/>
        </p:nvGrpSpPr>
        <p:grpSpPr>
          <a:xfrm>
            <a:off x="4632480" y="1285920"/>
            <a:ext cx="3835080" cy="4356000"/>
            <a:chOff x="4632480" y="1285920"/>
            <a:chExt cx="3835080" cy="4356000"/>
          </a:xfrm>
        </p:grpSpPr>
        <p:pic>
          <p:nvPicPr>
            <p:cNvPr id="504" name="" descr=""/>
            <p:cNvPicPr/>
            <p:nvPr/>
          </p:nvPicPr>
          <p:blipFill>
            <a:blip r:embed="rId2"/>
            <a:stretch/>
          </p:blipFill>
          <p:spPr>
            <a:xfrm>
              <a:off x="4657680" y="1311480"/>
              <a:ext cx="3771360" cy="42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3"/>
            <a:stretch/>
          </p:blipFill>
          <p:spPr>
            <a:xfrm>
              <a:off x="4632480" y="1285920"/>
              <a:ext cx="3835080" cy="435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6" name="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3886200" cy="290844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93480" y="3588840"/>
            <a:ext cx="3886200" cy="2667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Main briefing room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51 competitors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5 flights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14 tasks</a:t>
            </a:r>
            <a:endParaRPr b="0" lang="en-US" sz="3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8" name=""/>
          <p:cNvSpPr/>
          <p:nvPr/>
        </p:nvSpPr>
        <p:spPr>
          <a:xfrm>
            <a:off x="4876920" y="228600"/>
            <a:ext cx="33271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Main launch field</a:t>
            </a:r>
            <a:endParaRPr b="0" lang="en-US" sz="36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622080"/>
            <a:ext cx="8356680" cy="2400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Entry fee including accommodation </a:t>
            </a:r>
            <a:br>
              <a:rPr sz="4000"/>
            </a:b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and meals for Pilot + 3 crew members:</a:t>
            </a:r>
            <a:br>
              <a:rPr sz="4000"/>
            </a:b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between 500 to 1000 €, (B&amp;B or hotel)</a:t>
            </a:r>
            <a:endParaRPr b="0" lang="en-US" sz="4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88840" y="3873600"/>
            <a:ext cx="7366320" cy="2209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And of course: gas, maps (paper and electronic), pilot’s pack, opening and closing ceremony.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1608120" y="800280"/>
            <a:ext cx="6413400" cy="56260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395280" y="10332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6bb"/>
                </a:solidFill>
                <a:latin typeface="Baskerville"/>
              </a:rPr>
              <a:t>2008 Competition Map – Few PZs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6227640" y="3284640"/>
            <a:ext cx="720720" cy="93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591240" y="2730600"/>
            <a:ext cx="14479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1d18"/>
                </a:solidFill>
                <a:latin typeface="Baskerville"/>
              </a:rPr>
              <a:t>Vichy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946080" y="831960"/>
            <a:ext cx="7581960" cy="567684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468360" y="10332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1c18"/>
                </a:solidFill>
                <a:latin typeface="Baskerville"/>
              </a:rPr>
              <a:t>Large fields everywhere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650"/>
                </a:solidFill>
                <a:latin typeface="Baskerville"/>
              </a:rPr>
              <a:t>Vichy 2012</a:t>
            </a:r>
            <a:endParaRPr b="0" lang="en-US" sz="4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3160" y="2196720"/>
            <a:ext cx="8064360" cy="2451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/>
          </a:bodyPr>
          <a:p>
            <a:pPr marL="698400" indent="-44424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Event Director: Eric Decelliere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103 Team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Observers &amp; Logger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946080" y="995400"/>
            <a:ext cx="7645320" cy="554976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446040" y="20484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1d18"/>
                </a:solidFill>
                <a:latin typeface="Baskerville"/>
              </a:rPr>
              <a:t>Landscape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c Decellieres</dc:creator>
  <dc:description/>
  <cp:keywords/>
  <dc:language>en-US</dc:language>
  <cp:lastModifiedBy>Alex Nagorski</cp:lastModifiedBy>
  <dcterms:modified xsi:type="dcterms:W3CDTF">2009-04-25T03:20:56Z</dcterms:modified>
  <cp:revision>1</cp:revision>
  <dc:subject/>
  <dc:title>Diapositive 1</dc:title>
</cp:coreProperties>
</file>