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F412-08CB-4345-8F53-126271EDE5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70B4-CFB1-4D4C-9E56-CA1FCD1C9A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CAB9-55DE-4A24-AC1D-6D78493A42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proper disclosure of internal working documents &amp; discu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3A9E-5C03-492F-BD7B-D8D37FB3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FA05-0FB8-4BCE-9B95-E485EDAF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B563-621F-4F65-ABB1-571535EC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1B51-58CC-4DA4-B205-C4CC96ED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F2CD-146D-4B93-8E0A-FD45B487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755F-4AD2-4E8B-B643-F1C81B3E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9A40-B386-4B67-ACF2-EE55E9EA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54CE-AB75-413F-B644-2BB54D00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8F72-26D7-4080-B1F2-3E3D40C7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E1A-E865-4AB2-99AF-773ED5C6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048-0EE9-4EB9-BB4B-2F61AFAC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094A-6239-4597-837F-FF6BC19C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EDB4-1375-445B-8C40-97051CB1CFBF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52A2-3E7E-4CAA-976E-CACA44AE57FA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8D29BFBB-A32B-40F4-B501-C10FFF0FF913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Status 2014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Flexibility in Oxygen Rules 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(EASA)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EAS: “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Drivers Licence“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 Pilot Medica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Current Issues to decide 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WADA request paper: 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Juergen K Knueppel,  MD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esident 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777240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308D-D19E-4E36-B6D3-6C743ED463F0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955332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Eurostile"/>
              </a:rPr>
              <a:t>Practical recommendation</a:t>
            </a: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to Federations FAI Anti-Doping Work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e60c7e"/>
                </a:solidFill>
                <a:latin typeface="Eurostile"/>
              </a:rPr>
              <a:t>Where are we? – What to improve?</a:t>
            </a:r>
            <a:endParaRPr b="0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52280" y="1065240"/>
            <a:ext cx="9753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2880" y="1413000"/>
            <a:ext cx="93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s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Anti Doping Manag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 Board Memb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ontact to WADA, Sport Accord, NADO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Eurostile"/>
                <a:ea typeface="MS Gothic"/>
              </a:rPr>
              <a:t>(National Anti-Doping Organization)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how rules &amp; violations get handled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Leg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Medic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Proactive Training, Ambassadors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Anti Doping-PR, Presentations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&gt; </a:t>
            </a: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Competent Person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Immediate Contact to FAI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(when a “</a:t>
            </a: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ase”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is ope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olu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0:53:51Z</dcterms:modified>
  <cp:revision>585</cp:revision>
  <dc:subject/>
  <dc:title>Présentation PowerPoint</dc:title>
</cp:coreProperties>
</file>