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F59D6-263B-46DA-B919-D78337125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42104-2F2C-4F2C-BFB8-2535559CE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603EF-AEEA-4D17-A01F-F840A2CD4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A1328-39ED-4571-A141-D1371A18E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7E133-4801-4E90-B784-C39137A1A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A722C-8BA9-4BAD-BB50-7112FD52D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1390F-AFE1-4EDA-9ADB-828053E9A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9FA99-7F38-47D2-A837-7ED24C01F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C495A-684E-4729-B67A-C0DC8937E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C77A4-77D6-4BEC-9826-5684C2628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1E473-0B89-45A3-9D36-B178749F9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5B22D-879B-49BE-80F2-22B8AA50B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2A747-40B0-4073-AAF2-7679943EA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C27B2-727E-40CD-95A2-A1ACBDDF5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47C4D-0552-49DB-9B07-0D61C6186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C5B72-F31C-492A-997D-5BC6B99BC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2E209-2250-4D30-AB44-D8A9870FC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CB37F-5CD0-4812-A2B9-031398597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9737D-E7AC-4EB4-BC43-4C87EC9C1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FE9D7-8361-4DD3-9A86-7328E8B36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AF41B-8760-4852-87F1-B4C949BF8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A9BF1-C10F-42B4-A410-568D1EB3A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8D426-40EC-4AB1-B7B3-A58E48856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B65D6-6732-4804-A0BA-510BB6DC7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08984-1822-4A4D-B404-C6C60D163FB8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7236000" y="333360"/>
            <a:ext cx="1512720" cy="977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539640" y="6237360"/>
            <a:ext cx="5400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CIVL Plenary 2006, Lausan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750EE-3105-4B76-AAF3-AD6213E26E49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7020000" y="189000"/>
            <a:ext cx="1512720" cy="9777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5000" spc="-1" strike="noStrike">
                <a:solidFill>
                  <a:srgbClr val="006633"/>
                </a:solidFill>
                <a:latin typeface="Garamond"/>
              </a:rPr>
              <a:t>CIVL Competition Software and database 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800" spc="-1" strike="noStrike">
                <a:solidFill>
                  <a:srgbClr val="000000"/>
                </a:solidFill>
                <a:latin typeface="Arial"/>
              </a:rPr>
              <a:t>Agust Gudmunds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800" spc="-1" strike="noStrike">
                <a:solidFill>
                  <a:srgbClr val="000000"/>
                </a:solidFill>
                <a:latin typeface="Arial"/>
              </a:rPr>
              <a:t>Vice-Presi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800" spc="-1" strike="noStrike">
                <a:solidFill>
                  <a:srgbClr val="000000"/>
                </a:solidFill>
                <a:latin typeface="Arial"/>
              </a:rPr>
              <a:t>Chairman of the Software W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4200" spc="-1" strike="noStrike">
                <a:solidFill>
                  <a:srgbClr val="006633"/>
                </a:solidFill>
                <a:latin typeface="Garamond"/>
              </a:rPr>
              <a:t>Internet and local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All modules available at the intern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Competition modules also standalone Windows Cli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Data transfer to and from the CIVL datab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4200" spc="-1" strike="noStrike">
                <a:solidFill>
                  <a:srgbClr val="006633"/>
                </a:solidFill>
                <a:latin typeface="Garamond"/>
              </a:rPr>
              <a:t>Benefit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For CIVL faster and more accurate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Organizer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FREE competition software (all disciplin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Get data from CIVL databa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Easy delivery of resul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Pilo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Accurate personal data (like spelling of nam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Online registr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More information on results and WP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4200" spc="-1" strike="noStrike">
                <a:solidFill>
                  <a:srgbClr val="006633"/>
                </a:solidFill>
                <a:latin typeface="Garamond"/>
              </a:rPr>
              <a:t>Time and money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Timeframe (intention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Database ** Version 1.0 almost Ready N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200" spc="-1" strike="noStrike">
                <a:solidFill>
                  <a:srgbClr val="000000"/>
                </a:solidFill>
                <a:latin typeface="Arial"/>
              </a:rPr>
              <a:t>Competitions, pilots, WPRS, interfac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Scor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200" spc="-1" strike="noStrike">
                <a:solidFill>
                  <a:srgbClr val="000000"/>
                </a:solidFill>
                <a:latin typeface="Arial"/>
              </a:rPr>
              <a:t>Acro</a:t>
            </a:r>
            <a:r>
              <a:rPr b="0" lang="is-I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s-IS" sz="2200" spc="-1" strike="noStrike">
                <a:solidFill>
                  <a:srgbClr val="000000"/>
                </a:solidFill>
                <a:latin typeface="Arial"/>
              </a:rPr>
              <a:t>** The aim is for beginning of M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200" spc="-1" strike="noStrike">
                <a:solidFill>
                  <a:srgbClr val="000000"/>
                </a:solidFill>
                <a:latin typeface="Arial"/>
              </a:rPr>
              <a:t>Accuracy ** The aim is for beginning of M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200" spc="-1" strike="noStrike">
                <a:solidFill>
                  <a:srgbClr val="000000"/>
                </a:solidFill>
                <a:latin typeface="Arial"/>
              </a:rPr>
              <a:t>XC **Before year end (2006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Budget is to make sure the project will not stop because of money shortage.</a:t>
            </a:r>
            <a:br>
              <a:rPr sz="2600"/>
            </a:b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Hopefully it will not all be used. </a:t>
            </a:r>
            <a:br>
              <a:rPr sz="2600"/>
            </a:b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(One year worth of Sanction fe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4200" spc="-1" strike="noStrike">
                <a:solidFill>
                  <a:srgbClr val="006633"/>
                </a:solidFill>
                <a:latin typeface="Garamond"/>
              </a:rPr>
              <a:t>Current system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WPRS - pilot ranking  (on CIVL web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Competition calenda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Race 2003 – Scor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Many flight verification systems (gp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Check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CompeGp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Many other systems (some fre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Other systems (online registration...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4200" spc="-1" strike="noStrike">
                <a:solidFill>
                  <a:srgbClr val="006633"/>
                </a:solidFill>
                <a:latin typeface="Garamond"/>
              </a:rPr>
              <a:t>New software projec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Competition datab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Pilot datab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WPRS – pilot rank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Flight verific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Competition Scor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Scoring (all disciplin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200" spc="-1" strike="noStrike">
                <a:solidFill>
                  <a:srgbClr val="000000"/>
                </a:solidFill>
                <a:latin typeface="Arial"/>
              </a:rPr>
              <a:t>Web client if Internet connection is avail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200" spc="-1" strike="noStrike">
                <a:solidFill>
                  <a:srgbClr val="000000"/>
                </a:solidFill>
                <a:latin typeface="Arial"/>
              </a:rPr>
              <a:t>Windows client for standalone vers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</a:rPr>
              <a:t>Data is transferred from CIVL competition datab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</a:rPr>
              <a:t>Results returned to the CIVL datab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4200" spc="-1" strike="noStrike">
                <a:solidFill>
                  <a:srgbClr val="006633"/>
                </a:solidFill>
                <a:latin typeface="Garamond"/>
              </a:rPr>
              <a:t>For all CIVL disciplines</a:t>
            </a:r>
            <a:r>
              <a:rPr b="0" lang="is-IS" sz="4200" spc="-1" strike="noStrike">
                <a:solidFill>
                  <a:srgbClr val="006633"/>
                </a:solidFill>
                <a:latin typeface="Garamond"/>
              </a:rPr>
              <a:t>	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Hang gliding Class1 X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Hang gliding Class 2 X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Hang gliding Class 5 X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Hang gliding Aerobati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Paragliding X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Paragliding Accurac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Paragliding Aerobatic (solo and syncro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3000" spc="-1" strike="noStrike">
                <a:solidFill>
                  <a:srgbClr val="000000"/>
                </a:solidFill>
                <a:latin typeface="Arial"/>
              </a:rPr>
              <a:t>Different needs for tasks/scoring/WP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4200" spc="-1" strike="noStrike">
                <a:solidFill>
                  <a:srgbClr val="006633"/>
                </a:solidFill>
                <a:latin typeface="Garamond"/>
              </a:rPr>
              <a:t>CIVL Databas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Pilot databa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Competition database (register event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Pay sanction fe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Automatic Competition calend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Results databa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200" spc="-1" strike="noStrike">
                <a:solidFill>
                  <a:srgbClr val="000000"/>
                </a:solidFill>
                <a:latin typeface="Arial"/>
              </a:rPr>
              <a:t>All task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200" spc="-1" strike="noStrike">
                <a:solidFill>
                  <a:srgbClr val="000000"/>
                </a:solidFill>
                <a:latin typeface="Arial"/>
              </a:rPr>
              <a:t>Scores of every tas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200" spc="-1" strike="noStrike">
                <a:solidFill>
                  <a:srgbClr val="000000"/>
                </a:solidFill>
                <a:latin typeface="Arial"/>
              </a:rPr>
              <a:t>All tracklog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200" spc="-1" strike="noStrike">
                <a:solidFill>
                  <a:srgbClr val="000000"/>
                </a:solidFill>
                <a:latin typeface="Arial"/>
              </a:rPr>
              <a:t>Total sco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List of competition of every count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List of competition of every plilo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4200" spc="-1" strike="noStrike">
                <a:solidFill>
                  <a:srgbClr val="006633"/>
                </a:solidFill>
                <a:latin typeface="Garamond"/>
              </a:rPr>
              <a:t>Pilots databas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Pilots have unique I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All pilots 2001-2005 already register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Pilots can register and update own personal inform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Pilots can register for competi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4200" spc="-1" strike="noStrike">
                <a:solidFill>
                  <a:srgbClr val="006633"/>
                </a:solidFill>
                <a:latin typeface="Garamond"/>
              </a:rPr>
              <a:t>Competitio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Register a competition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Automatic Competition Calenda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Add participants (already in the database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Create tas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Do scor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Display task resul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Display competition Resul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Add competition to WPRS </a:t>
            </a: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(and CIVL databas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4200" spc="-1" strike="noStrike">
                <a:solidFill>
                  <a:srgbClr val="006633"/>
                </a:solidFill>
                <a:latin typeface="Garamond"/>
              </a:rPr>
              <a:t>Ranking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All disciplines (and female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Different WPRS formulas for each discipli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Ranking updated regularl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More information availab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Competi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Pilo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Tasks and resul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WPRS (with backward history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4200" spc="-1" strike="noStrike">
                <a:solidFill>
                  <a:srgbClr val="006633"/>
                </a:solidFill>
                <a:latin typeface="Garamond"/>
              </a:rPr>
              <a:t>Scoring for all disciplin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Accuracy scor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Acrobatic scor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XC scor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Flight verific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Different scoring formul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20:30:12Z</dcterms:created>
  <dc:creator>ag</dc:creator>
  <dc:description/>
  <dc:language>en-US</dc:language>
  <cp:lastModifiedBy>ag</cp:lastModifiedBy>
  <dcterms:modified xsi:type="dcterms:W3CDTF">2006-02-11T10:45:48Z</dcterms:modified>
  <cp:revision>15</cp:revision>
  <dc:subject/>
  <dc:title>CIVL Competition Software </dc:title>
</cp:coreProperties>
</file>