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FBFE-1875-4C31-9F0D-570B12A70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6D0A-C4CE-4A49-9A75-5A87AC7F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DB69-8195-4124-AF29-093FC876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F28C-74FB-480A-8FF5-FA5493225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A9B9-E650-4CCD-98F8-833992FB3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91DD-BA3D-45A0-902E-3FC8DA00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8342-9406-4EA9-9EA8-6B9034D7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5563-10C5-4687-B93C-AF3FF8DF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867D-BA95-4A34-BF60-6263C60E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DF6F-BB1E-41A3-920D-374A91D9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4AC3-84B0-4311-802A-DE9A8D22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67A0-6099-4B6B-A3D5-8A08B51B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9956-D386-4A03-9D3E-C9C51FAD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2C14-C71A-4EB1-BAC4-DF515EAF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0EFA-6D8A-4F11-AF3E-F21B7CFF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C44A-CBB5-4979-995F-D330F1DB7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27C4-7B19-48C8-A33E-FFFC8B9E4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C8B6-2C42-4E7D-BB33-5CBAF879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9F11-328F-4A42-8A5B-C7878ACF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85CB-2DA3-4234-9793-CB5FFE87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468D-9F14-429D-B22F-BB28B52B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5915-36C3-414A-B7A4-2D3C69D6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D462-67BD-41A1-9307-F48251CA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B008-6C2A-41BA-92A8-CC80EB6A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5C46-2E81-463D-9AF9-A2FC6EA7E0D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236000" y="333360"/>
            <a:ext cx="151272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39640" y="6237360"/>
            <a:ext cx="54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IVL Plenary 2006, Lausa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B7D0-4813-46E9-8F5D-284B5075FC1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512720" cy="977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5000" spc="-1" strike="noStrike">
                <a:solidFill>
                  <a:srgbClr val="006633"/>
                </a:solidFill>
                <a:latin typeface="Garamond"/>
              </a:rPr>
              <a:t>CIVL Competition Software and database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Agust Gudmund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Vice-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Chairman of the Software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Internet and loc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modules available at the inter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modules also standalone Windows Cl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ata transfer to and from the CIVL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Benefi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or CIVL faster and more accurat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rganiz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REE competition software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Get data from CIVL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Easy delivery of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ccurate personal data (like spelling of na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Online regist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ore information on results and WP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Time and mon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Timeframe (inten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atabase ** Version 1.0 almost Ready 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Competitions, pilots, WPRS, interf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ro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curacy 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XC **Before year end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Budget is to make sure the project will not stop because of money shortage.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Hopefully it will not all be used. 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One year worth of Sanction fe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urrent syst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- pilot ranking  (on CIVL we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ce 2003 –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any flight verification systems (gp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G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any other systems (some fre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ther systems (online registration..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New software projec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– pilot ran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eb client if Internet connection i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indows client for standalone 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Data is transferred from CIVL competi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Results returned to the CIVL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For all CIVL disciplines</a:t>
            </a: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1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2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5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Aeroba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ccur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erobatic (solo and syncr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000" spc="-1" strike="noStrike">
                <a:solidFill>
                  <a:srgbClr val="000000"/>
                </a:solidFill>
                <a:latin typeface="Arial"/>
              </a:rPr>
              <a:t>Different needs for tasks/scoring/WP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IVL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 database (register even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ay sanction f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Results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ask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Scores of every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racklo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Total sc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coun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plil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Pilots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have unique 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pilots 2001-2005 already regist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and update own personal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for compet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ompet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egister a competi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participants (already in the databas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reate tas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o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task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competition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competition to WPRS </a:t>
            </a: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and CIVL databa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Ran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disciplines (and fema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fferent WPRS formulas for each discip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nking updated regula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ore information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Tasks and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WPRS (with backward hist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Scoring for all discipli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curacy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robati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X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ifferent scoring formu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0:30:12Z</dcterms:created>
  <dc:creator>ag</dc:creator>
  <dc:description/>
  <dc:language>en-US</dc:language>
  <cp:lastModifiedBy>ag</cp:lastModifiedBy>
  <dcterms:modified xsi:type="dcterms:W3CDTF">2006-02-11T10:45:48Z</dcterms:modified>
  <cp:revision>15</cp:revision>
  <dc:subject/>
  <dc:title>CIVL Competition Software </dc:title>
</cp:coreProperties>
</file>